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E5C-85E2-4184-A26B-5E1BC157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C8E-B5D5-4B86-9A6E-A986DA2F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EA3-8A25-4411-B9C5-8459A3AE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4AD-A388-40FD-A399-290AA63B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A52-566A-4363-926B-A2FFA151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FD87-5AE0-4CF7-A34C-6CF94EA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4080-BBD8-4644-923E-E0211231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E68E-2FBA-4710-B314-20067AF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999F-6AAA-4002-856D-361C115B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077-2AA5-4114-8F5C-F63B2708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B751-62DB-42F9-9E49-79E43BE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450-C4B6-4BFF-A129-00D4D6E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C3E6-D091-4A05-84DE-69B41D7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9A83-6930-41E4-B21B-A01C7A9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BE82-765E-4756-AFD0-DE04646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61B2-1DC7-4B33-ADEA-8788248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A97D-0F44-4451-B045-DD08A557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BD6-CED2-4B17-9AB5-6AD809D8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0C6-94CC-451D-A4C4-F1CEB9B6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7C6-9018-4ABD-AAB4-8512E84A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2E1-7067-4412-BA77-78922D24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7C7-9ABD-43E0-B573-45535F4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842-E677-4959-AABF-4847B1B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615-0B0D-45A2-8C76-6BF157C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96F2-B48E-41BC-96C1-718E999F66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21A7-AF78-43B7-92F9-CF1357A3C6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Beginning of Captivity for Israel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uarter 7, Lesson 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ll There Was No Remedy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ivided Kingdom, Part 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ges 115-11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nvasion by the Edomites and the Philistines  </a:t>
            </a: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Chron. 28:17-19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domites took captivities from 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ilistines captured many cities in the low country and in the sou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asked the king of Assyria for hel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23619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haz Asked the King of Assyria for Help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7-8;  2 Chron. 28:16; 20-21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would not join the Syrian-Israel coali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would not ask God for hel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ather, he sought help from Tiglath-pileser of Assyr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4280" y="2209320"/>
            <a:ext cx="4191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ssyria Falls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9;  2 Chron. 28:16; 20-21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glath-pileser destroyed Damasc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zin king of Damascus kill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ea was made an Assyrian provi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43400" y="21337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638680"/>
            <a:ext cx="6629400" cy="1068840"/>
          </a:xfrm>
          <a:prstGeom prst="rect">
            <a:avLst/>
          </a:prstGeom>
          <a:noFill/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Isaiah’s prophecy coming true about the fall of </a:t>
            </a:r>
            <a:r>
              <a:rPr b="1" lang="en-US" sz="3200" spc="-1" strike="noStrike">
                <a:solidFill>
                  <a:srgbClr val="ffffcc"/>
                </a:solidFill>
                <a:latin typeface="Eras Demi ITC"/>
              </a:rPr>
              <a:t>Syria</a:t>
            </a:r>
            <a:r>
              <a:rPr b="0" lang="en-US" sz="3200" spc="-1" strike="noStrike">
                <a:solidFill>
                  <a:srgbClr val="ffffcc"/>
                </a:solidFill>
                <a:latin typeface="Eras Demi ITC"/>
              </a:rPr>
              <a:t> and </a:t>
            </a:r>
            <a:r>
              <a:rPr b="1" lang="en-US" sz="3200" spc="-1" strike="noStrike">
                <a:solidFill>
                  <a:srgbClr val="ffffcc"/>
                </a:solidFill>
                <a:latin typeface="Eras Demi ITC"/>
              </a:rPr>
              <a:t>Isra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52880" y="3124080"/>
            <a:ext cx="838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The Setting For This Lesson</a:t>
            </a:r>
            <a:endParaRPr b="0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tham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 Chron. 5:25-26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iglath-pileser king of Assyria took captivities from Gile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od had “stirred” the spirit of Tiglath-pileser against Isra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Judah Attacked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5:3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of Israel and Rezin king of Damascus (Syria) joined fo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y began to afflict Judah during the last days of Jotham king of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Ahaz - New King of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5:38-16:4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otham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ried in City of Davi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haz - reigned 16 years (most wick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0 years ol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n of Joth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11120" indent="-39672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ffered his son as a sacrif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kah - 17th ye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and Rezin started a war with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aiah met with Ahaz and told hi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 to fear the two “firebrand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sk for a sign from God, but he refu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aiah said a sign would be giv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virgin shall conceive, bear a child, and be called Immanu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land will be forsaken by both k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and Rezin besieged Jerusal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zin re-took Elath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See 2 Kings 14:2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zin carried away great multitudes from Judah to Damasc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ekah killed 120,000 in Judah in one d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rael carried away 200,000 from Judah to Samaria (mostly women and children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ded, a prophet of God, confronted the Israelites about the capti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 said to return the captives back to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:  They were no better than Juda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rael’s leaders also asked that they be returned to avoid more of God’s wra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Israel/Syria War Against Judah</a:t>
            </a:r>
            <a:br>
              <a:rPr sz="4400"/>
            </a:b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2 Kings 16:5-6;  2 Chron. 28:5-15;  Isaiah 7:1-17</a:t>
            </a:r>
            <a:endParaRPr b="0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army left the the captives and the spoil the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leaders clothed and fed them, and took them back to Jerich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7:43:35Z</dcterms:created>
  <dc:creator>Don Vines</dc:creator>
  <dc:description/>
  <dc:language>en-US</dc:language>
  <cp:lastModifiedBy>Frank D Vines</cp:lastModifiedBy>
  <dcterms:modified xsi:type="dcterms:W3CDTF">2006-02-05T19:18:17Z</dcterms:modified>
  <cp:revision>16</cp:revision>
  <dc:subject/>
  <dc:title>The Beginning of Captivity of Israel</dc:title>
</cp:coreProperties>
</file>